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C46-1D85-4317-B321-E535E662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11C5-94F6-4060-A7CB-03372212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BD1-A094-48A9-B3C7-D604C6CE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E05-2C54-4FEE-92EC-E5A6F9DD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3B0-D9D3-44E0-B132-21757B76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3C4-8023-4EE7-B49D-28596068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E92-29A6-4732-9598-FB891B07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B97-93F1-4165-9FAA-FA925E17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41C-EE05-49B3-8C5A-282EE523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AE8-7B68-4076-AD4B-A0E17832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592-A7AB-4986-AF74-DBC41F3A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2B4-BDDE-4467-87B5-A2600040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E0DE-C02F-4498-AC17-91C824B8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eb.mit.edu/invent/iow/crayons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35200" y="4913280"/>
            <a:ext cx="13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ecca 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 22,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304920"/>
            <a:ext cx="58676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00ffff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Arial Black"/>
              </a:rPr>
              <a:t>Crayola Crayons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00ffff"/>
                  </a:gs>
                  <a:gs pos="100000">
                    <a:srgbClr val="ff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Binney &amp; Smith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Binney &amp; Smith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, 2/28/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ray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75"/>
            </a:gs>
            <a:gs pos="50000">
              <a:srgbClr val="ff00ff"/>
            </a:gs>
            <a:gs pos="100000">
              <a:srgbClr val="75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Invention: Crayola Cray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ince 1903, Crayola crayons have extended on success in the number of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n 1902, wax crayons were big, dull-colored and clum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rayola” means oil ch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n 1903 the first yellow and green box of eight C.C appreh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Kids still love to color with crayons and they probably always w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5000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Inventors: Edward Binney and Harold Sm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heir company was in New York City in the late 18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t first, they specialized in industrial col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hey are still the master of the market it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hey founded in Binney and Smith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hey won a gold medal in St. Lou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7:49Z</dcterms:created>
  <dc:creator>install</dc:creator>
  <dc:description/>
  <dc:language>en-US</dc:language>
  <cp:lastModifiedBy>install</cp:lastModifiedBy>
  <dcterms:modified xsi:type="dcterms:W3CDTF">2011-03-11T18:31:23Z</dcterms:modified>
  <cp:revision>11</cp:revision>
  <dc:subject/>
  <dc:title>Slide 1</dc:title>
</cp:coreProperties>
</file>